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AA843-0A15-493E-8EF2-9DF61CFBC3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AD9B4-C924-4E43-9589-A49A0EAC80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7573-B8AB-4CAA-8042-4FF347A3B3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8916D-0E49-4FE0-A94A-204FB6151D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F6105-BE69-4425-A7B4-E4293ACC45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1238-9FCF-4C7E-BC9C-C8C2A0C41D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76EC9-EDDC-41ED-A93D-8385BD2212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C99E4-C79E-4F9C-823B-B5B79191AA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ED9EC-0F24-4C31-8E48-85DA8658E8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4BD55-025A-48A4-9BC4-3CB719BC0B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C932D-A9E2-4625-A621-EC20AE4416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014A2-9A0C-4F54-B8A4-AF1BA0272F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9BC93-2B9C-44F2-B34F-BAF390813EA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05025-6E0B-4582-8AAE-F0A5589A05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A4AC4-6D98-4BE4-B5FE-CACB4260A9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C8B-C372-41C0-9B69-DD56513F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C23-AE41-4A4D-B885-18A6D1C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43C5-4D0E-4245-9E2B-3A9AC66C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69227-77D7-4281-8121-F724182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FECC-E9C2-4CD6-A8F5-CC0908AD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74696-442F-4105-A93B-7A2A64D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24190-267A-4971-BA79-DDD188D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38A87-F1E2-419D-B544-37E3200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F46DD-F4BB-4B58-842E-7FC6572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143B-257C-4648-9DEC-B87DA6FD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E9EF4-DD45-467E-9C69-27425112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E9EB-5489-4441-84EA-BF34B9B6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867-6CA3-40BC-9A9C-FCA78417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304C-06B5-4344-A5FB-263892F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F27CC-84BF-4173-B277-82BDED4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2F111-88E1-4B77-98D7-AC95891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8B03E-CE0B-4CA3-8BB0-B5757CB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868F8-CF26-4ACA-9263-4EEF922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A3C7E-4D3B-4690-B58F-92F5E5C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BF54-0A8E-47DE-A497-8988B35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A362F-9EA5-4D6B-A322-CED0DB4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820BA-72F1-4FA2-89DF-C998101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B9231-6951-4F62-8808-F739FFD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434-2DCA-4806-9DAC-779D4804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7E76F-DBC6-4371-A60A-ED76FEF3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089D-C847-4E9C-BF42-7C3A9133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ECAD-E1B4-4D2F-A4C8-3960E6B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DCCFF-98D0-4FE1-AA20-85D7B7A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2032-5ED1-404F-892F-D276A934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0D4B-5CD6-4EC3-AF96-D0CDEBA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3A11B-53A6-481E-9CBC-D3E88AB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75304-B0FF-4D84-9D21-9422D36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93703-4B7E-4361-9370-7480F09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314BA-9E9C-4A74-990E-EC7AE6D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B42-021D-49A4-9D9A-A722CF47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9577-8C58-478E-8492-F897784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40C2F-6487-4536-9C16-E07860D3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B887-2BFA-4CCA-9100-065775E0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0B0-EAC4-4AA9-9043-3E3ADEA1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18E-8913-46FD-9FE8-F96C25F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C4C8-8874-46CF-8D9D-B7D6FD8F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5E70-8B92-4F19-88DF-88ED516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7A6A-04C3-4AA1-8676-807A87AE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D88-EC3B-400D-9D09-517DA6A7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420-24D8-4F8D-A750-C88FD22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E2A-AB99-4536-A706-B7A36AF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7099-DB30-4C5A-8ABB-6295BD0D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47BD-9353-4E63-82A0-D96A2A8D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94B-87C3-4470-B321-6C18972E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154-3D4E-4740-931C-212EFFDD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D1ED-5DC1-45C8-AADD-3AE47D71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01B3-7D19-486A-8227-CA2D890A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DDF2-A7C3-4B9A-96F5-48B20FA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07CA-B330-4BD3-9E32-9924C694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E19F-35C0-4F34-9C42-F2C0EB7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5ED-F3DA-4EA2-869E-F4EE315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D430-5BA1-45AC-9D02-987EC34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B1C0-595A-4550-BE4E-3B9F91F0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D716-48B3-40E1-9D5E-5400604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9330-C777-4A3C-98D9-7A66748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A221-7B8B-461F-B39D-A1EEBF75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F87D-8FF7-4B8F-B2B8-9F39CD31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280B-7254-4739-A304-359E8055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6A9C-0134-4555-99FA-BB774B10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6059-A722-4037-B852-77258DDF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AE48-E5E3-43DC-B4F2-A08BD12F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4A1-B1E3-4FEC-9A09-BB1D9A3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6907-2CFB-48A3-8C8A-3296862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7841-AE88-44B3-994C-F914D96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F8C2-9585-4543-AFAD-E5AA57C9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BBA0-ACE6-4851-98E4-BB80906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442D-5C47-4B9D-8335-5204AFC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702E-96E1-4131-B267-52D7137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3800-BF2C-4879-A8C9-52FB04B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8294-CFD5-463E-946F-A36C8630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DCD5-C3B7-4578-BC8C-3A9089FD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8703-2CDE-4FD6-9805-F3725B76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E68-D4D0-4D5E-82B5-7623F550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CF7D-AEB5-4243-B9AA-CE2AB416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89CD-B249-4BA5-9C4C-346AE5F6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561B-50ED-45AB-9440-99715C31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745F-A4B8-430B-9DFE-6491992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634D-0A8B-4210-A582-325019B1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0C04-98F6-40B9-AE8D-C0D7C76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66FE-EC62-47F5-A948-0EB0940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5559-EDBD-47C8-A869-C9FCAAB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24D6-7A74-4CAA-AC26-010A7C72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4215-FDB7-498E-BA4C-B567793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D30-94D8-4133-B663-D60C2D68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016E-5A25-451C-9BAD-10D7E9A8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090A-E6FE-40A1-BBA3-62D8820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7FD7-B648-4296-8355-53216D3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4E79-5CF5-4CF0-9552-D143E35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2FC4-7179-4DB7-A228-935CA085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39B4-4132-49DF-8F14-5FC76DD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0CE6-D256-4118-880E-100BBE3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540F-8CA9-4EC0-853C-9B933BB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A7BD-1D8B-4980-9B9D-B32F956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8320-6461-4FEB-BF96-00F2AAC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D75-6A46-4957-8B34-57CD0B6D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5C74-0770-4B4C-AC71-0A6B700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172A1-16BE-4C13-926E-65CC96DE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9619C-BB34-4949-9D0D-75D56AB5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8E4F-3294-4AF1-8ECD-C9BDC559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2303-8129-4823-B204-E639B91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2BE9D-68C7-43AD-A135-3152D3D2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4399B-0598-411F-A29F-9C71AA1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93FF-438B-465E-92AE-17E1D5D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43EC7-B373-4CBB-8F59-8B7C1FBC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4D26-0434-4C4A-8B64-3479D4B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E17-41BD-4AF5-87F4-1A005AF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3EDA8-B4DB-4E1F-9013-09F2D81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F56E-2D48-4BF1-89B4-786B660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BB2C-77F6-4F19-9CA6-F8E6DDE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D5A7-C299-44A3-90A5-17BF1CF0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86AF-6954-4A1C-8166-9BCF0875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7943-C974-4422-863B-8C0E2834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8EDBC-E703-4F4A-B104-0E5A348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0C984-7937-4A9E-9E6A-4D95075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4360E-9D0A-4DEB-8D32-E8C142D2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C903D-1647-4405-A32A-6B72D42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CDC-85E9-4176-AAA1-17E6768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B23F-FB19-4D57-AC47-DBCDC41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F4BD-EE38-44B2-BC2A-6B344EA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74C04-E847-4EAF-B8E8-70B03FC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8F35-1711-49E1-9204-B54842C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0399-9CFC-4133-8AF0-F86A5437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6860-CDBA-441C-B658-5A09648C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43C4D-66F3-4DAE-B742-C933A04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43D75-8EDB-4C65-B44D-E30CE0EE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362B-437A-4119-9AC3-C5D0BEA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87581-0A00-4675-A0F3-0631385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D99E3-D7E7-4E5F-9250-D652E796362A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CFE1A-8B73-444B-9B55-DED7C5EC65AE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6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C1FC1-FEE3-4443-882F-F3393EAABB29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6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B99A1-92F5-4DE0-901B-0BC4902F90D0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29EE-387B-4F74-A4B9-E289128843EA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6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8DA8E-B617-42A2-BC4A-8271C7D1AF2F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8F845-372C-4CDE-9436-ABAD161EADF1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5D3EF-CBAF-4FF2-8F15-F500ABAFE099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6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C9403-0E23-4BFD-8B22-24925F6E384C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937F2-FED4-409F-8842-F3532FE11060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7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8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1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6B0D4-3B68-47FF-8F08-3E74000DCF98}" type="slidenum">
              <a:rPr b="0" lang="pt-BR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AMIDEAST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LEMENTARY 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SSION ON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888000" cy="36957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cook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392720" cy="37494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8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playing tenni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038400" cy="39592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61128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ea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176640" cy="4103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baseball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92720" cy="24465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swimm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5800" cy="3281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aint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102120" cy="4103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324000" y="501336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doing gymnastics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104000" cy="3275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playing socc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276800" cy="37702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fish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2865240" cy="3816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324000" y="5013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reading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Kristen ITC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do you do every da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........................... and 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A: What are you doing now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Kristen ITC"/>
              </a:rPr>
              <a:t>B: I am ........................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6948360" y="3573360"/>
            <a:ext cx="1389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Content Placeholder 4" descr=""/>
          <p:cNvPicPr/>
          <p:nvPr/>
        </p:nvPicPr>
        <p:blipFill>
          <a:blip r:embed="rId1"/>
          <a:stretch/>
        </p:blipFill>
        <p:spPr>
          <a:xfrm>
            <a:off x="468360" y="249120"/>
            <a:ext cx="82184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ONE IS 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She is at the do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e is on the d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 is in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He is at a pa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ill Sans MT"/>
              </a:rPr>
              <a:t>The program was o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rogram was in T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2880" y="804960"/>
          <a:ext cx="6572520" cy="50004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ca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party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way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meet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k / hom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ra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airpor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c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fé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stop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bu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y offi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chool / colleg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w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nny’s ho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7e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tore / the kitch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c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1988640"/>
            <a:ext cx="6572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10 SENTENCES ABOUT YOU OR YOUR FRIENDS USING PREPOSITIONS OF PLA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3528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5900" spc="-1" strike="noStrike">
                <a:solidFill>
                  <a:srgbClr val="ffffff"/>
                </a:solidFill>
                <a:latin typeface="Kristen ITC"/>
              </a:rPr>
              <a:t>WHAT ARE THEY DOING?</a:t>
            </a:r>
            <a:endParaRPr b="0" lang="en-US" sz="5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1908360" cy="2449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1724040" cy="2952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2293920" cy="2952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4"/>
          <a:stretch/>
        </p:blipFill>
        <p:spPr>
          <a:xfrm>
            <a:off x="611280" y="54936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2430360" cy="31687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324000" y="465300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She’s taking a pictur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808440" cy="30132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539640" y="465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Kristen ITC"/>
              </a:rPr>
              <a:t>He’s using the computer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0:44:47Z</dcterms:created>
  <dc:creator>Cliente</dc:creator>
  <dc:description/>
  <dc:language>en-US</dc:language>
  <cp:lastModifiedBy>heba hanafy</cp:lastModifiedBy>
  <dcterms:modified xsi:type="dcterms:W3CDTF">2025-04-09T17:49:34Z</dcterms:modified>
  <cp:revision>12</cp:revision>
  <dc:subject/>
  <dc:title>Slide 1</dc:title>
</cp:coreProperties>
</file>