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3F7-8A79-4F8A-83E8-3794CE02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995E-E0D2-4B39-9C5C-BB84B7E8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771-30CE-4734-A6EC-4B48E3ED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AE9-EA2C-4BE6-9E10-7375F7BD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EF9A-A8F8-4A29-8DB5-48C3C9BC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D06C-3D5F-4705-871A-E0194AD0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B617-2353-45D6-8145-17A94B99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1C7C-2D3F-43F6-84C3-47823926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09DD-F66B-4FAC-AEAC-F5E8C92F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2D2B-B994-4960-BD35-7D306CEC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4000-9846-4A81-BF67-977863FB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D3E7-548E-4A09-A9FD-3745A1DA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BBC4-43DD-440D-9DCE-C9C7E7D9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D1E6-CD73-4153-A848-9F54F9A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26F5-516D-4A2D-90E9-FA857410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1FF9-124F-4B05-8DAB-47192920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C908-49E3-4C7C-ABF5-DD080529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F1E70-658C-4847-8F3E-924C2E28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EB0F2-38F6-4678-9C86-C527518F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DC330-8580-4C82-8F2E-00318F79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0C883-D1D0-4203-ADDE-F6613E7F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5850-C1E2-49FF-B054-8E24D141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F88-1BCD-4167-B118-AA698B14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9DFB5-A8D0-4F30-B86D-ED9DDC47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E6C75-73DD-421B-AEAF-18F711D2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75DCA-1AEE-4D93-8C11-F48820B3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9E67-2E7E-4BA0-B639-E3E16ADB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C6CA1-F60F-4C23-BA57-0EC7253D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540AC-84DC-4151-8AD3-529046E5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125C3-95F7-4AF9-A7A3-136773BC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D37-CFE8-4F35-A535-E002AA3C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4B6D-EEB9-416B-AB2B-1C9E6EF6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E19-699E-46A6-BEAD-202B0E59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32F-F275-4899-B43F-B2388C4C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57C-EF29-4A2A-995A-ADA18B14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114-5584-4545-A31F-8F755996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2CE7-BDA7-4C70-BE94-43A38412C46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A684-340B-4FB2-902C-A7FC7E91FA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926D-AEB0-4F63-B038-2C832699FB3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492000" y="260280"/>
            <a:ext cx="5256360" cy="165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The ENGLISH TEN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826920" y="2565360"/>
            <a:ext cx="6985080" cy="2305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he</a:t>
            </a:r>
            <a:r>
              <a:rPr b="1" lang="en-US" sz="6000" spc="-1" strike="noStrike">
                <a:solidFill>
                  <a:srgbClr val="00b200"/>
                </a:solidFill>
                <a:latin typeface="Bookman Old Style"/>
              </a:rPr>
              <a:t> PRESENT PERFECT </a:t>
            </a:r>
            <a:r>
              <a:rPr b="1" lang="en-US" sz="6000" spc="-1" strike="noStrike">
                <a:solidFill>
                  <a:srgbClr val="000000"/>
                </a:solidFill>
                <a:latin typeface="Bookman Old Style"/>
              </a:rPr>
              <a:t>ten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8280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5) to present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new information</a:t>
            </a: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350208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987640" y="5589720"/>
            <a:ext cx="5545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Wow! I’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e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got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 a 5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j0397482"/>
          <p:cNvPicPr/>
          <p:nvPr/>
        </p:nvPicPr>
        <p:blipFill>
          <a:blip r:embed="rId1"/>
          <a:stretch/>
        </p:blipFill>
        <p:spPr>
          <a:xfrm>
            <a:off x="684360" y="1557360"/>
            <a:ext cx="41749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new infor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720" y="2421000"/>
            <a:ext cx="3672000" cy="34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police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have arrested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two men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1" name="Picture 4" descr="j0398331"/>
          <p:cNvPicPr/>
          <p:nvPr/>
        </p:nvPicPr>
        <p:blipFill>
          <a:blip r:embed="rId1"/>
          <a:stretch/>
        </p:blipFill>
        <p:spPr>
          <a:xfrm>
            <a:off x="755640" y="1341360"/>
            <a:ext cx="4145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848360" cy="11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6). “</a:t>
            </a:r>
            <a:r>
              <a:rPr b="1" i="1" lang="en-US" sz="3600" spc="-1" strike="noStrike">
                <a:solidFill>
                  <a:srgbClr val="ff9900"/>
                </a:solidFill>
                <a:latin typeface="Comic Sans MS"/>
              </a:rPr>
              <a:t>It is the (first) time</a:t>
            </a: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 smth.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as happened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3280" y="2133360"/>
            <a:ext cx="410544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It is the (first) time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won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lotery!”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32796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j0424464"/>
          <p:cNvPicPr/>
          <p:nvPr/>
        </p:nvPicPr>
        <p:blipFill>
          <a:blip r:embed="rId1"/>
          <a:stretch/>
        </p:blipFill>
        <p:spPr>
          <a:xfrm>
            <a:off x="539640" y="1700280"/>
            <a:ext cx="3664080" cy="38894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8"/>
          <p:cNvSpPr/>
          <p:nvPr/>
        </p:nvSpPr>
        <p:spPr>
          <a:xfrm>
            <a:off x="395280" y="1557360"/>
            <a:ext cx="82090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134200" cy="25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cc"/>
                </a:solidFill>
                <a:uFillTx/>
                <a:latin typeface="Comic Sans MS"/>
              </a:rPr>
              <a:t>7). With </a:t>
            </a: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state</a:t>
            </a:r>
            <a:r>
              <a:rPr b="1" lang="en-US" sz="3600" spc="-1" strike="noStrike" u="sng">
                <a:solidFill>
                  <a:srgbClr val="0000cc"/>
                </a:solidFill>
                <a:uFillTx/>
                <a:latin typeface="Comic Sans MS"/>
              </a:rPr>
              <a:t> verbs instead of Continuou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be, dislike, enjoy, feel, hate, hear, know, like, prefer, remember, see, smell, taste,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et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5589720"/>
            <a:ext cx="7056360" cy="9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200" spc="-1" strike="noStrike">
                <a:solidFill>
                  <a:srgbClr val="ff0000"/>
                </a:solidFill>
                <a:latin typeface="Comic Sans MS"/>
              </a:rPr>
              <a:t>have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 always </a:t>
            </a:r>
            <a:r>
              <a:rPr b="1" lang="en-US" sz="4200" spc="-1" strike="noStrike">
                <a:solidFill>
                  <a:srgbClr val="ff0000"/>
                </a:solidFill>
                <a:latin typeface="Comic Sans MS"/>
              </a:rPr>
              <a:t>liked 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this film</a:t>
            </a:r>
            <a:r>
              <a:rPr b="1" lang="ru-RU" sz="4200" spc="-1" strike="noStrike">
                <a:solidFill>
                  <a:srgbClr val="000000"/>
                </a:solidFill>
                <a:latin typeface="Comic Sans MS"/>
              </a:rPr>
              <a:t>»</a:t>
            </a:r>
            <a:r>
              <a:rPr b="1" lang="en-US" sz="4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Picture 7" descr="j0397436"/>
          <p:cNvPicPr/>
          <p:nvPr/>
        </p:nvPicPr>
        <p:blipFill>
          <a:blip r:embed="rId1"/>
          <a:stretch/>
        </p:blipFill>
        <p:spPr>
          <a:xfrm>
            <a:off x="1763640" y="3195720"/>
            <a:ext cx="51134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92000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The Present Perfect is used with the following </a:t>
            </a:r>
            <a:r>
              <a:rPr b="1" lang="en-US" sz="3600" spc="-1" strike="noStrike" u="sng">
                <a:solidFill>
                  <a:srgbClr val="ff9900"/>
                </a:solidFill>
                <a:uFillTx/>
                <a:latin typeface="Comic Sans MS"/>
              </a:rPr>
              <a:t>time expressions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Comic Sans MS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79640" y="1557360"/>
            <a:ext cx="6480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ju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lway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already (+)/ yet (-;?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ever/ nev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si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Comic Sans MS"/>
              </a:rPr>
              <a:t>lately/ recent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324000" y="476280"/>
          <a:ext cx="7993080" cy="5718240"/>
        </p:xfrm>
        <a:graphic>
          <a:graphicData uri="http://schemas.openxmlformats.org/drawingml/2006/table">
            <a:tbl>
              <a:tblPr/>
              <a:tblGrid>
                <a:gridCol w="2447640"/>
                <a:gridCol w="2737080"/>
                <a:gridCol w="28083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Regular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er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st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ast </a:t>
                      </a: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Comic Sans MS"/>
                        </a:rPr>
                        <a:t>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wash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eliev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f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i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play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‘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ope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ban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n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G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G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travel</a:t>
                      </a: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d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U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539640" y="404640"/>
          <a:ext cx="7983720" cy="6212160"/>
        </p:xfrm>
        <a:graphic>
          <a:graphicData uri="http://schemas.openxmlformats.org/drawingml/2006/table">
            <a:tbl>
              <a:tblPr/>
              <a:tblGrid>
                <a:gridCol w="1798920"/>
                <a:gridCol w="3025440"/>
                <a:gridCol w="3159360"/>
              </a:tblGrid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rregular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st 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st </a:t>
                      </a: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I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/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g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el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hear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l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iv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o</a:t>
                      </a: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u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t (learn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t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learne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Oval 4"/>
          <p:cNvSpPr/>
          <p:nvPr/>
        </p:nvSpPr>
        <p:spPr>
          <a:xfrm>
            <a:off x="1403280" y="476280"/>
            <a:ext cx="6193080" cy="5689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Bookman Old Style"/>
                <a:ea typeface="MS Mincho"/>
              </a:rPr>
              <a:t>PERFECT</a:t>
            </a:r>
            <a:r>
              <a:rPr b="1" lang="en-US" sz="4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Bookman Old Style"/>
                <a:ea typeface="MS Mincho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have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       </a:t>
            </a: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+ V</a:t>
            </a:r>
            <a:r>
              <a:rPr b="1" lang="en-US" sz="5400" spc="-1" strike="noStrike" baseline="-25000">
                <a:solidFill>
                  <a:srgbClr val="ff0000"/>
                </a:solidFill>
                <a:latin typeface="Bookman Old Style"/>
                <a:ea typeface="MS Mincho"/>
              </a:rPr>
              <a:t>I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has</a:t>
            </a:r>
            <a:r>
              <a:rPr b="1" lang="en-US" sz="4800" spc="-1" strike="noStrike">
                <a:solidFill>
                  <a:srgbClr val="ff0000"/>
                </a:solidFill>
                <a:latin typeface="Bookman Old Style"/>
                <a:ea typeface="MS Mincho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6000" y="980640"/>
            <a:ext cx="6840720" cy="45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7200" spc="-1" strike="noStrike">
                <a:solidFill>
                  <a:srgbClr val="00b200"/>
                </a:solidFill>
                <a:latin typeface="Comic Sans MS"/>
              </a:rPr>
              <a:t>PRESENT PERFECT tense</a:t>
            </a:r>
            <a:r>
              <a:rPr b="1" lang="en-US" sz="7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is used: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1) to express a </a:t>
            </a: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present </a:t>
            </a:r>
            <a:br>
              <a:rPr sz="4000"/>
            </a:b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RESULT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of the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past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actions 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95280" y="4941360"/>
            <a:ext cx="57610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hasn’t done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his homework”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9" descr="Копия 119"/>
          <p:cNvPicPr/>
          <p:nvPr/>
        </p:nvPicPr>
        <p:blipFill>
          <a:blip r:embed="rId1"/>
          <a:stretch/>
        </p:blipFill>
        <p:spPr>
          <a:xfrm>
            <a:off x="900000" y="1700280"/>
            <a:ext cx="7129440" cy="31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63640" y="5444640"/>
            <a:ext cx="7129440" cy="8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he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has picke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a lot of apples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Picture 4" descr="Копия Изображение 001"/>
          <p:cNvPicPr/>
          <p:nvPr/>
        </p:nvPicPr>
        <p:blipFill>
          <a:blip r:embed="rId1"/>
          <a:stretch/>
        </p:blipFill>
        <p:spPr>
          <a:xfrm>
            <a:off x="2716200" y="1341360"/>
            <a:ext cx="3646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13744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2) to expr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life experience</a:t>
            </a:r>
            <a:r>
              <a:rPr b="1" i="1" lang="en-US" sz="4000" spc="-1" strike="noStrike" u="sng">
                <a:solidFill>
                  <a:srgbClr val="009900"/>
                </a:solidFill>
                <a:uFillTx/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ever, never</a:t>
            </a:r>
            <a:r>
              <a:rPr b="1" i="1" lang="en-US" sz="40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5003640" y="2565360"/>
            <a:ext cx="3592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i="1" lang="en-US" sz="4000" spc="-1" strike="noStrike">
                <a:solidFill>
                  <a:srgbClr val="009900"/>
                </a:solidFill>
                <a:latin typeface="Comic Sans MS"/>
              </a:rPr>
              <a:t>Have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ever </a:t>
            </a:r>
            <a:r>
              <a:rPr b="1" i="1" lang="en-US" sz="4000" spc="-1" strike="noStrike">
                <a:solidFill>
                  <a:srgbClr val="009900"/>
                </a:solidFill>
                <a:latin typeface="Comic Sans MS"/>
              </a:rPr>
              <a:t>been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a chil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118"/>
          <p:cNvPicPr/>
          <p:nvPr/>
        </p:nvPicPr>
        <p:blipFill>
          <a:blip r:embed="rId1"/>
          <a:stretch/>
        </p:blipFill>
        <p:spPr>
          <a:xfrm>
            <a:off x="395280" y="1484280"/>
            <a:ext cx="46083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3) to expres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omic Sans MS"/>
              </a:rPr>
              <a:t>unfinished past 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(</a:t>
            </a:r>
            <a:r>
              <a:rPr b="1" i="1" lang="en-US" sz="4000" spc="-1" strike="noStrike" u="sng">
                <a:solidFill>
                  <a:srgbClr val="ff9900"/>
                </a:solidFill>
                <a:uFillTx/>
                <a:latin typeface="Comic Sans MS"/>
              </a:rPr>
              <a:t>since, recently, for</a:t>
            </a:r>
            <a:r>
              <a:rPr b="1" i="1" lang="en-US" sz="4000" spc="-1" strike="noStrike" u="sng">
                <a:solidFill>
                  <a:srgbClr val="0000cc"/>
                </a:solidFill>
                <a:uFillTx/>
                <a:latin typeface="Comic Sans MS"/>
              </a:rPr>
              <a:t>)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908000" y="5300280"/>
            <a:ext cx="6948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y </a:t>
            </a:r>
            <a:r>
              <a:rPr b="1" i="1" lang="en-US" sz="4400" spc="-1" strike="noStrike">
                <a:solidFill>
                  <a:srgbClr val="ff0000"/>
                </a:solidFill>
                <a:latin typeface="Comic Sans MS"/>
              </a:rPr>
              <a:t>have bee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friends </a:t>
            </a:r>
            <a:r>
              <a:rPr b="1" lang="en-US" sz="4400" spc="-1" strike="noStrike">
                <a:solidFill>
                  <a:srgbClr val="ff9900"/>
                </a:solidFill>
                <a:latin typeface="Comic Sans MS"/>
              </a:rPr>
              <a:t>for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20 year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258120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0" descr="Изображение 001"/>
          <p:cNvPicPr/>
          <p:nvPr/>
        </p:nvPicPr>
        <p:blipFill>
          <a:blip r:embed="rId1"/>
          <a:stretch/>
        </p:blipFill>
        <p:spPr>
          <a:xfrm>
            <a:off x="1116000" y="1484280"/>
            <a:ext cx="6337440" cy="37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18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4) 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to express a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AST action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, period of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ime isn’t finished</a:t>
            </a: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(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already, just, yet, this year</a:t>
            </a:r>
            <a:r>
              <a:rPr b="1" i="1" lang="en-US" sz="4000" spc="-1" strike="noStrike">
                <a:solidFill>
                  <a:srgbClr val="0000cc"/>
                </a:solidFill>
                <a:latin typeface="Comic Sans MS"/>
              </a:rPr>
              <a:t>)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7" descr="120"/>
          <p:cNvPicPr/>
          <p:nvPr/>
        </p:nvPicPr>
        <p:blipFill>
          <a:blip r:embed="rId1"/>
          <a:stretch/>
        </p:blipFill>
        <p:spPr>
          <a:xfrm>
            <a:off x="1332000" y="2060640"/>
            <a:ext cx="4222800" cy="4464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8"/>
          <p:cNvSpPr/>
          <p:nvPr/>
        </p:nvSpPr>
        <p:spPr>
          <a:xfrm>
            <a:off x="5796000" y="2852640"/>
            <a:ext cx="2832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already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ha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ix cakes!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AST </a:t>
            </a:r>
            <a:r>
              <a:rPr b="1" lang="en-US" sz="4400" spc="-1" strike="noStrike">
                <a:solidFill>
                  <a:srgbClr val="000099"/>
                </a:solidFill>
                <a:latin typeface="Comic Sans MS"/>
              </a:rPr>
              <a:t>action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,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time isn’t finish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18920" y="5229360"/>
            <a:ext cx="727380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have be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o the circus twice </a:t>
            </a:r>
            <a:r>
              <a:rPr b="1" i="1" lang="en-US" sz="4000" spc="-1" strike="noStrike">
                <a:solidFill>
                  <a:srgbClr val="ff9900"/>
                </a:solidFill>
                <a:latin typeface="Comic Sans MS"/>
              </a:rPr>
              <a:t>this week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”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4" descr="119"/>
          <p:cNvPicPr/>
          <p:nvPr/>
        </p:nvPicPr>
        <p:blipFill>
          <a:blip r:embed="rId1"/>
          <a:stretch/>
        </p:blipFill>
        <p:spPr>
          <a:xfrm>
            <a:off x="611280" y="1844640"/>
            <a:ext cx="75610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2:20:19Z</dcterms:created>
  <dc:creator>Нина Ивановна</dc:creator>
  <dc:description/>
  <dc:language>en-US</dc:language>
  <cp:lastModifiedBy>Compte Microsoft</cp:lastModifiedBy>
  <dcterms:modified xsi:type="dcterms:W3CDTF">2022-03-29T18:17:16Z</dcterms:modified>
  <cp:revision>96</cp:revision>
  <dc:subject/>
  <dc:title>Слайд 1</dc:title>
</cp:coreProperties>
</file>