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D04-0D96-42E0-A3D4-27C10EB3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AF4-C2B8-4912-9A5D-F8A76A09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C0B-80D8-4041-BB6A-BD06892A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D12-7A44-4EF3-B51C-55B51318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2B7D-B723-4F99-AFC3-CD902B88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082-E0E1-401E-9EBC-BE617AB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9E98-420A-4FBC-94A0-BE0C5691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C8AB-898D-46E2-8047-BC757B52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82E1-3EDA-4BDA-B4F4-B437212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5A5-2F1D-45AD-ADB2-BB7A1ED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EB2A-F50D-4121-8552-2BE5C41D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BAC-32AF-4C69-AB87-7C682EAF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EDF-0A97-4CF9-AEDB-3FC3453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1BA-66B6-43CF-B30F-F1B57EC3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4FF8-7BF0-4482-AF04-B1346DCB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9FE7-C326-4086-93C4-5D8483E3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F952-3DCB-4829-A542-7D64B837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7FA5E-0F97-4DA0-AF50-73184C47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E773-3AEB-405F-8D60-6948000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337A-2FA3-4E49-9304-B0F0D1D1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09F5-68FE-4DA7-8155-9CD2DD7F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0EAD-E2AD-47A3-95C2-B5D5736A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7E4-DEBD-44F9-8FED-C183FBBF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4343-893A-4C99-849A-D4EE993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70AA-5987-4CF9-B293-4DE1344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FCD9-7367-460A-98D0-38CF029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B9CF-83C6-46C8-B3C8-92BEB68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446A-2536-4E26-B96E-CF531F19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0419-4E61-4C06-B681-E25BF6A9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FF19-12C2-406E-8F3E-BECCEDC4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672-DB09-4046-B239-32A7B69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F2D-EB2E-4908-A395-4DCE99C1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E64-9DA2-4292-BB6E-AFB67FF0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6C9-69F2-411A-BEBF-B5A62C8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F22-BD40-4F4A-8DA3-1A5894E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1A5-ADC4-41D5-B8CF-AD5CFD1C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279-AFCC-49F9-9827-B3BD74F8F77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4850-2CA1-429F-AEB1-10B0208745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5DE7-C65C-4B31-B75E-7F93824554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5256360" cy="16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ENGLISH TEN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26920" y="2565360"/>
            <a:ext cx="698508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</a:t>
            </a:r>
            <a:r>
              <a:rPr b="1" lang="en-US" sz="6000" spc="-1" strike="noStrike">
                <a:solidFill>
                  <a:srgbClr val="00b200"/>
                </a:solidFill>
                <a:latin typeface="Bookman Old Style"/>
              </a:rPr>
              <a:t> PRESENT PERFECT </a:t>
            </a: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5) to presen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5020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987640" y="5589720"/>
            <a:ext cx="55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ow! I’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e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a 5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j0397482"/>
          <p:cNvPicPr/>
          <p:nvPr/>
        </p:nvPicPr>
        <p:blipFill>
          <a:blip r:embed="rId1"/>
          <a:stretch/>
        </p:blipFill>
        <p:spPr>
          <a:xfrm>
            <a:off x="684360" y="1557360"/>
            <a:ext cx="4174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720" y="2421000"/>
            <a:ext cx="3672000" cy="34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polic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e arres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wo men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j0398331"/>
          <p:cNvPicPr/>
          <p:nvPr/>
        </p:nvPicPr>
        <p:blipFill>
          <a:blip r:embed="rId1"/>
          <a:stretch/>
        </p:blipFill>
        <p:spPr>
          <a:xfrm>
            <a:off x="755640" y="1341360"/>
            <a:ext cx="41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84836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6). “</a:t>
            </a:r>
            <a:r>
              <a:rPr b="1" i="1" lang="en-US" sz="36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smth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as happened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3280" y="2133360"/>
            <a:ext cx="4105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w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otery!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279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j0424464"/>
          <p:cNvPicPr/>
          <p:nvPr/>
        </p:nvPicPr>
        <p:blipFill>
          <a:blip r:embed="rId1"/>
          <a:stretch/>
        </p:blipFill>
        <p:spPr>
          <a:xfrm>
            <a:off x="539640" y="1700280"/>
            <a:ext cx="3664080" cy="3889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95280" y="1557360"/>
            <a:ext cx="8209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1342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7). With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tate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 verbs instead of Continuou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be, dislike, enjoy, feel, hate, hear, know, like, prefer, remember, see, smell, taste,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5589720"/>
            <a:ext cx="705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always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liked 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his film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7" descr="j0397436"/>
          <p:cNvPicPr/>
          <p:nvPr/>
        </p:nvPicPr>
        <p:blipFill>
          <a:blip r:embed="rId1"/>
          <a:stretch/>
        </p:blipFill>
        <p:spPr>
          <a:xfrm>
            <a:off x="1763640" y="3195720"/>
            <a:ext cx="5113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9200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he Present Perfect is used with the following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Comic Sans MS"/>
              </a:rPr>
              <a:t>time expression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4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ready (+)/ yet (-;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ever/ 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lately/ recen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24000" y="476280"/>
          <a:ext cx="7993080" cy="5718240"/>
        </p:xfrm>
        <a:graphic>
          <a:graphicData uri="http://schemas.openxmlformats.org/drawingml/2006/table">
            <a:tbl>
              <a:tblPr/>
              <a:tblGrid>
                <a:gridCol w="2447640"/>
                <a:gridCol w="2737080"/>
                <a:gridCol w="2808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gula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404640"/>
          <a:ext cx="7983720" cy="6212160"/>
        </p:xfrm>
        <a:graphic>
          <a:graphicData uri="http://schemas.openxmlformats.org/drawingml/2006/table">
            <a:tbl>
              <a:tblPr/>
              <a:tblGrid>
                <a:gridCol w="1798920"/>
                <a:gridCol w="3025440"/>
                <a:gridCol w="3159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regula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 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1403280" y="476280"/>
            <a:ext cx="6193080" cy="568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ERFECT</a:t>
            </a:r>
            <a:r>
              <a:rPr b="1" lang="en-US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ve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 </a:t>
            </a: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+ V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Bookman Old Style"/>
                <a:ea typeface="MS Mincho"/>
              </a:rPr>
              <a:t>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s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PRESENT PERFECT tens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is used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1) to express a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resent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of t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pas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actions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4941360"/>
            <a:ext cx="5761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sn’t do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his homework”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9" descr="Копия 119"/>
          <p:cNvPicPr/>
          <p:nvPr/>
        </p:nvPicPr>
        <p:blipFill>
          <a:blip r:embed="rId1"/>
          <a:stretch/>
        </p:blipFill>
        <p:spPr>
          <a:xfrm>
            <a:off x="900000" y="1700280"/>
            <a:ext cx="712944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63640" y="5444640"/>
            <a:ext cx="71294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has pick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 lot of appl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2716200" y="1341360"/>
            <a:ext cx="3646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2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fe experience</a:t>
            </a: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, never</a:t>
            </a: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003640" y="2565360"/>
            <a:ext cx="3592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Have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 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been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 chil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18"/>
          <p:cNvPicPr/>
          <p:nvPr/>
        </p:nvPicPr>
        <p:blipFill>
          <a:blip r:embed="rId1"/>
          <a:stretch/>
        </p:blipFill>
        <p:spPr>
          <a:xfrm>
            <a:off x="395280" y="1484280"/>
            <a:ext cx="4608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3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unfinished past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(</a:t>
            </a:r>
            <a:r>
              <a:rPr b="1" i="1" lang="en-US" sz="4000" spc="-1" strike="noStrike" u="sng">
                <a:solidFill>
                  <a:srgbClr val="ff9900"/>
                </a:solidFill>
                <a:uFillTx/>
                <a:latin typeface="Comic Sans MS"/>
              </a:rPr>
              <a:t>since, recently, for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08000" y="5300280"/>
            <a:ext cx="69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riends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fo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20 yea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81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Изображение 001"/>
          <p:cNvPicPr/>
          <p:nvPr/>
        </p:nvPicPr>
        <p:blipFill>
          <a:blip r:embed="rId1"/>
          <a:stretch/>
        </p:blipFill>
        <p:spPr>
          <a:xfrm>
            <a:off x="1116000" y="1484280"/>
            <a:ext cx="63374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4)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to expres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ST acti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, period of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, just, yet, this year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7" descr="120"/>
          <p:cNvPicPr/>
          <p:nvPr/>
        </p:nvPicPr>
        <p:blipFill>
          <a:blip r:embed="rId1"/>
          <a:stretch/>
        </p:blipFill>
        <p:spPr>
          <a:xfrm>
            <a:off x="1332000" y="2060640"/>
            <a:ext cx="4222800" cy="4464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5796000" y="2852640"/>
            <a:ext cx="283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ha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cakes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ST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8920" y="5229360"/>
            <a:ext cx="72738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o the circus twic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this week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119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2:20:19Z</dcterms:created>
  <dc:creator>Нина Ивановна</dc:creator>
  <dc:description/>
  <dc:language>en-US</dc:language>
  <cp:lastModifiedBy>Compte Microsoft</cp:lastModifiedBy>
  <dcterms:modified xsi:type="dcterms:W3CDTF">2022-03-29T18:17:16Z</dcterms:modified>
  <cp:revision>96</cp:revision>
  <dc:subject/>
  <dc:title>Слайд 1</dc:title>
</cp:coreProperties>
</file>