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13F2-9E42-457E-BEFC-D78F8B521F5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6442-4C7F-4227-A0B1-F0E2BA124F3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9BBD-6B47-4288-9B19-BEF1AAB7C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0889-F8B8-4BC3-A55A-65C772F0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75A64-C36D-4840-908A-84AFC1F7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2CD7BD-BE1E-4BE2-873A-61A040E0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4F007-A8C2-43B5-A2DD-9CAFE18A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9CC6FF-86EF-409A-9BD6-3310ED05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9FC65D-9323-4C42-A5D2-621B3B8B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E9349-A8C2-40F9-96C9-39AC98B5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5D088-50CE-4F3D-8B5F-D5E90BCD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729D5C-3CF3-4F34-8A50-51AA8D5CA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224D56-5DE1-4B08-BB45-A9FAF4789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3F8F10-4B45-4927-8D30-2F9F2AD75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14D5-F585-42EA-A5D8-395C3F19C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A9AF66-E8B1-4A17-84EF-17B50C87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8D084B-9861-4E35-84E4-1DD3D284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DA0346-A8AB-4680-8F68-49ED25B8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FF3184-3565-423E-982F-C24DE7A3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1CFBE7-5FE8-4766-8C80-3FB591C8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BD1FD5-9A41-4973-84E8-C1D24815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AB4216-A51E-410D-A9DB-54338C2C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7907B7-B3B9-4B5A-B37A-EB2D29DD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E9C02A-AEAD-45B6-83FC-FDCA4815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CCDF39-D690-4CFF-9ADA-4E9FC4E98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A666-BCB6-4CCE-B472-6F564D958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BD9625-0609-495D-8CB1-720A0715B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02BD9-29C1-4C0E-85F9-63CF6E0FA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E3E51-FA44-4BC7-A9D0-20743BD0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1E71FB-52AE-405B-B0A1-F20BE675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AE501-B90B-4598-A4FE-A1565B87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9B722-5C2E-42DB-9F43-E17CADE5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9EFDDA-6015-4D0E-93D3-C785ABF9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90419C-141D-4B7B-9D09-26E50B67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2682C-643E-407F-BBDB-1BD50E5D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DACC5-3499-4503-BC85-39D5400F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72DD-E9FC-4030-B9E8-F55B93E4B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18BD57-C690-4346-89FC-9D272309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E60A4E-EFA3-4118-B2BC-D3CE72FBD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3717A4-BF7F-4B10-85B9-20D9BD22D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B92A83-B64E-4405-9995-D17A22323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733A4C-DD74-4E2D-893D-E7A0D731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EDAA64-F878-4977-8CCB-A1CF0CC9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924571-B2C6-441E-9FEE-673ECB02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2050B5-0238-4756-BCAC-91D63FE4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DA25D7-F57B-47C3-96AB-B6598833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316260-D4CB-4D72-8619-7C035B4B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FF122-CCB7-4F72-8513-86CF0688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53CEAC-9971-4D6B-95BE-8490046E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8C9F37-2D27-4D51-A91C-557290BA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271C5B-E802-4A75-B9BD-FEFCFAFF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927EF7-25C2-4267-A6EA-2E3BFA49C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B6BD55-A4D0-48F0-A3AB-3096B4415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C855-2461-46BB-A50D-BD1F6E43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4162-BFD9-496B-AEAD-07229D09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83F25-1E99-4C58-BD68-7A41AF04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7A3D-6FE5-4A31-A6B1-2A291CE8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B952-C4B3-4D69-A7B4-989890B7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1542-8756-4E9B-B0C3-65CDB1E0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2888-97CC-437D-863A-AA0AE532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DF88-02D3-483A-AB1F-4C794F9F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2E7B-EE31-445E-B747-1ABF3893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C657-40B2-41FE-B229-23B082CA2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1197-76FA-4B3F-8365-BD44F97EC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2B136-5F28-4BFD-A2BB-4DD2FD0A9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35FE8-CD6A-4B76-A378-537C09F5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55FBC-F830-4369-B121-8B67036B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626BC-5E81-4F55-AAEA-2976DB77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10046-388B-43CC-8BC9-DF9A8F4B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9ED2-E06C-4F44-BCA9-D7E4FD24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4655F-1C7E-4602-A64B-B6C79CEE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C2E70-45BE-47BB-9B1B-566D5086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4810C-6CDE-43B8-A7FC-DF2AE198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9AF98-031B-4798-9C8F-6CB16A3A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D88D2-9C3D-429B-A058-054701DB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10001-47C2-45CC-95D9-C2AAE13C3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78E96-0F4C-449B-85E5-44C817DF7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95B7E-ADFA-47DF-A214-11B0AB5F6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52065-D287-41D9-B7E7-E52951F4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D7F4A-BAEE-40CB-A599-641FC6F3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FB5A-DC89-458B-AD5A-F237637D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A2AAD-2517-465C-874A-4EFCD65C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4EE94-E45D-48E6-BE6F-B8BCD19B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01513-FB93-4499-9A05-86A2CEE8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F2765-6966-4CB3-9D2B-C4222D0C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8231A-2E32-4EF3-8210-E95AE304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A49D3-CD20-4E52-80F3-3692843C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BBA6C-0877-4D6C-BC2A-71002D28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5B01B-A60B-43E4-B86F-E27737E87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C2B1B-75A4-41CE-83C6-A28F61DF2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C3C97-6993-4CD9-97D3-6B0316064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0257-4E47-4620-AFFD-85573A17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89949-4F7E-4E81-AAF5-0C774150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33841-81BC-46B1-93C8-B406768E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DB968-C55D-4FAF-ABF7-7C7D4A57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F0C22-1F3F-42D9-B7E2-4EBD5665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66E87-62F9-4E8E-AB08-DB62CEAA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9AC03-7F40-4403-B1FD-4E7B3EDE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F0203-CDED-4900-AC10-07C16499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BB1FA-A9DA-4A33-A2D9-A71127C3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1E7E6-F0B4-4A41-9531-AFDD3C4C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6894D-5F05-4273-A8CF-75D960A96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2AD3-9494-4335-A4E8-8869C6CF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083FD-B198-4700-A45D-4CD96D190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17B3D-C38D-46BE-AAAE-64491E884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A3FDE-E237-4FB1-9E0E-12ECDFC1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2A6B1-90C7-4F6C-9326-F8536CE9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A2CBC-2AD6-48DF-BC53-454A114C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075B6-0A11-49D9-A20A-163D9BD2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2FD0D-8E39-45FA-861A-FAA6A02A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AF0BC-9D5A-4BCE-B39A-2E4D7C44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5FA46-528B-460E-8FBE-9F675F63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3D085-A388-49BC-8920-B1CFD2A6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42A5-BCA2-4883-B5EE-0DCAAADA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6AB24-D169-49AD-9D7D-D78195EDE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24170-556F-4668-A617-A11CE3551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C4DCA-9C3D-4F3F-9A29-333E2C38B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2B727-1CAB-43E1-A36F-D24B26BEA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F0F9C-0ACE-40F6-9644-D038D448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1FDEF-37FF-42C4-BB2D-C913AFAD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F8D85-52C1-492F-91B2-C0042358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81E37-6AF0-4152-846A-B8BB44B7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374E5-5FA1-4963-8E63-4AAF396E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E01D2-97E7-4823-BE5D-84B0E2A3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5983-4E9A-411C-80D5-9533A8B0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14BEB-F2A9-498F-9DAF-5790F87E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46CEE-63E8-4769-93BF-F31E57F8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05774-705D-4C80-BC79-E5C1D3CF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88C53-2B46-48EB-AE08-7B8CCAD2A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EE86C-D972-433E-BD0C-E93D50B04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447ED-A5A4-4454-B4D0-9729164FF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F502A-CA01-4922-BB68-D0F00666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8D18E-E3F6-4DA2-B267-FA64DEE8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7B019-5476-4E2E-B22A-A7A2A82D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D4606-8162-4835-89E2-17284109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56B5-0675-49F4-B927-E5FA9F4B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24511-C7A1-4B27-BA11-D324664A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C7BF6-006B-4CC9-A8D1-3F77DA68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A4032-8EB2-469B-AF4B-6FB44AE3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B7E59-7E28-4A14-BDAF-38475926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83556-2527-46A3-9D61-80D4EF64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D66A4-52EE-45AF-BB15-6E03AD793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4C5F7-399B-4228-BB57-AA37447B3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FDA3DA-C30A-437A-93B5-397145064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717C17-4DD0-40C8-8218-0D7EF6D6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A547A7-0176-441E-89BD-1DB15ABE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0F14-122C-49EE-AB45-40154B3D7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6E79-6A2E-4B35-9A3A-4AE0218B9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0B055-D478-4EEB-97B4-8F3F911E5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FC4A-A816-4AF2-8512-378867BF9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9A3E-A4BD-4D75-8865-D03B7553F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CFCE-8ACF-4941-AAAE-0E84B03A2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89B9-C052-4A6C-B32E-31F6EF86E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9948-D14C-472E-8F7F-A13551488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2063-59FA-49D0-A9BA-6DC202EFC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4F3C-610B-486A-86E4-9C3E9F451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25EA-9070-4329-8E51-10D73F5A6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4DB0-F737-4DBD-85B6-464B75CDB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Present Continuous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1042920" y="692280"/>
            <a:ext cx="654696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WHAT IS DAVID DO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900000" y="5135400"/>
            <a:ext cx="74883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1c1c1c"/>
                </a:solidFill>
                <a:latin typeface="Arial"/>
              </a:rPr>
              <a:t>At the moment he</a:t>
            </a:r>
            <a:r>
              <a:rPr b="1" lang="en-GB" sz="3500" spc="-1" strike="noStrike">
                <a:solidFill>
                  <a:srgbClr val="ffffff"/>
                </a:solidFill>
                <a:latin typeface="Arial"/>
              </a:rPr>
              <a:t>’s</a:t>
            </a:r>
            <a:r>
              <a:rPr b="0" lang="en-GB" sz="3500" spc="-1" strike="noStrike">
                <a:solidFill>
                  <a:srgbClr val="1c1c1c"/>
                </a:solidFill>
                <a:latin typeface="Arial"/>
              </a:rPr>
              <a:t> play</a:t>
            </a:r>
            <a:r>
              <a:rPr b="1" lang="en-GB" sz="3500" spc="-1" strike="noStrike">
                <a:solidFill>
                  <a:srgbClr val="ffffff"/>
                </a:solidFill>
                <a:latin typeface="Arial"/>
              </a:rPr>
              <a:t>ing</a:t>
            </a:r>
            <a:r>
              <a:rPr b="0" lang="en-GB" sz="3500" spc="-1" strike="noStrike">
                <a:solidFill>
                  <a:srgbClr val="1c1c1c"/>
                </a:solidFill>
                <a:latin typeface="Arial"/>
              </a:rPr>
              <a:t> footbal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MCj03967140000[1]"/>
          <p:cNvPicPr/>
          <p:nvPr/>
        </p:nvPicPr>
        <p:blipFill>
          <a:blip r:embed="rId1"/>
          <a:stretch/>
        </p:blipFill>
        <p:spPr>
          <a:xfrm>
            <a:off x="2843280" y="2276640"/>
            <a:ext cx="2859120" cy="2228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B + ing (spelling ru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3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642160" cy="5399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ONS THAT ARE HAPPEN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 PRESENT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26" descr=""/>
          <p:cNvPicPr/>
          <p:nvPr/>
        </p:nvPicPr>
        <p:blipFill>
          <a:blip r:embed="rId1"/>
          <a:stretch/>
        </p:blipFill>
        <p:spPr>
          <a:xfrm>
            <a:off x="3360600" y="1773360"/>
            <a:ext cx="2291040" cy="287964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 txBox="1"/>
          <p:nvPr/>
        </p:nvSpPr>
        <p:spPr>
          <a:xfrm>
            <a:off x="1258920" y="4652640"/>
            <a:ext cx="7416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r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danc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right now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describe a picture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Content Placeholder 7" descr="Image result for present continuous esl"/>
          <p:cNvPicPr/>
          <p:nvPr/>
        </p:nvPicPr>
        <p:blipFill>
          <a:blip r:embed="rId1"/>
          <a:stretch/>
        </p:blipFill>
        <p:spPr>
          <a:xfrm>
            <a:off x="1476360" y="1417680"/>
            <a:ext cx="6654960" cy="4637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ESENT CONTINUOUS T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EXPRES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at the moment, today, nowdays, this we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6"/>
          <p:cNvSpPr/>
          <p:nvPr/>
        </p:nvSpPr>
        <p:spPr>
          <a:xfrm>
            <a:off x="395280" y="5589720"/>
            <a:ext cx="82803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are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throw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ing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snowballs 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now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9" descr=""/>
          <p:cNvPicPr/>
          <p:nvPr/>
        </p:nvPicPr>
        <p:blipFill>
          <a:blip r:embed="rId1"/>
          <a:stretch/>
        </p:blipFill>
        <p:spPr>
          <a:xfrm>
            <a:off x="4356000" y="2876400"/>
            <a:ext cx="2143080" cy="236232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0" descr=""/>
          <p:cNvPicPr/>
          <p:nvPr/>
        </p:nvPicPr>
        <p:blipFill>
          <a:blip r:embed="rId2"/>
          <a:stretch/>
        </p:blipFill>
        <p:spPr>
          <a:xfrm>
            <a:off x="1979640" y="2986200"/>
            <a:ext cx="1990800" cy="2143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he Present Continuous T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ítulo 2"/>
          <p:cNvSpPr/>
          <p:nvPr/>
        </p:nvSpPr>
        <p:spPr>
          <a:xfrm>
            <a:off x="0" y="2421000"/>
            <a:ext cx="9144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571680" indent="-5716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am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iv</a:t>
            </a: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ing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classes right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y mother </a:t>
            </a: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is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work</a:t>
            </a: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ing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now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he students </a:t>
            </a: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are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pay</a:t>
            </a: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ing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attention at this mome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4865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ESENT CONTINUOUS T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755640" y="1628640"/>
          <a:ext cx="7056360" cy="4961160"/>
        </p:xfrm>
        <a:graphic>
          <a:graphicData uri="http://schemas.openxmlformats.org/drawingml/2006/table">
            <a:tbl>
              <a:tblPr/>
              <a:tblGrid>
                <a:gridCol w="2293920"/>
                <a:gridCol w="2604960"/>
                <a:gridCol w="2157480"/>
              </a:tblGrid>
              <a:tr h="1168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y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7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o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he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h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4" name="Text Box 39"/>
          <p:cNvSpPr/>
          <p:nvPr/>
        </p:nvSpPr>
        <p:spPr>
          <a:xfrm>
            <a:off x="1258920" y="112536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FIRMATIVE: 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ESENT CONTINUOUS T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0"/>
          <p:cNvSpPr/>
          <p:nvPr/>
        </p:nvSpPr>
        <p:spPr>
          <a:xfrm>
            <a:off x="611280" y="118584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ROGATIV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41"/>
          <p:cNvSpPr/>
          <p:nvPr/>
        </p:nvSpPr>
        <p:spPr>
          <a:xfrm flipH="1">
            <a:off x="5363280" y="11970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GATIVE: 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457200" y="1600200"/>
          <a:ext cx="4038480" cy="4641840"/>
        </p:xfrm>
        <a:graphic>
          <a:graphicData uri="http://schemas.openxmlformats.org/drawingml/2006/table">
            <a:tbl>
              <a:tblPr/>
              <a:tblGrid>
                <a:gridCol w="1297080"/>
                <a:gridCol w="906480"/>
                <a:gridCol w="18349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5f93d"/>
                          </a:solidFill>
                          <a:latin typeface="Arial"/>
                        </a:rPr>
                        <a:t>playing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1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9" name=""/>
          <p:cNvGraphicFramePr/>
          <p:nvPr/>
        </p:nvGraphicFramePr>
        <p:xfrm>
          <a:off x="4648320" y="1600200"/>
          <a:ext cx="4171680" cy="4637160"/>
        </p:xfrm>
        <a:graphic>
          <a:graphicData uri="http://schemas.openxmlformats.org/drawingml/2006/table">
            <a:tbl>
              <a:tblPr/>
              <a:tblGrid>
                <a:gridCol w="1063440"/>
                <a:gridCol w="1390680"/>
                <a:gridCol w="171756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m no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28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m no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lay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re no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are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s no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is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zoom dir="ou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ESENT CONTINUOUS T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4" descr="MCj04121740000[1]"/>
          <p:cNvPicPr/>
          <p:nvPr/>
        </p:nvPicPr>
        <p:blipFill>
          <a:blip r:embed="rId1"/>
          <a:stretch/>
        </p:blipFill>
        <p:spPr>
          <a:xfrm>
            <a:off x="2700360" y="1341360"/>
            <a:ext cx="2808360" cy="2867040"/>
          </a:xfrm>
          <a:prstGeom prst="rect">
            <a:avLst/>
          </a:prstGeom>
          <a:ln w="0">
            <a:noFill/>
          </a:ln>
        </p:spPr>
      </p:pic>
      <p:sp>
        <p:nvSpPr>
          <p:cNvPr id="522" name="Text Box 5"/>
          <p:cNvSpPr/>
          <p:nvPr/>
        </p:nvSpPr>
        <p:spPr>
          <a:xfrm>
            <a:off x="179280" y="4508640"/>
            <a:ext cx="8713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Is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he play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ing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football  at the moment?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tângulo 1"/>
          <p:cNvSpPr/>
          <p:nvPr/>
        </p:nvSpPr>
        <p:spPr>
          <a:xfrm>
            <a:off x="903240" y="5167440"/>
            <a:ext cx="7413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o, he isn’t. He 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is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run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ning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SHE D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4" descr="MCBD07692_0000[1]"/>
          <p:cNvPicPr/>
          <p:nvPr/>
        </p:nvPicPr>
        <p:blipFill>
          <a:blip r:embed="rId1"/>
          <a:stretch/>
        </p:blipFill>
        <p:spPr>
          <a:xfrm>
            <a:off x="2268360" y="1636560"/>
            <a:ext cx="3816360" cy="2949840"/>
          </a:xfrm>
          <a:prstGeom prst="rect">
            <a:avLst/>
          </a:prstGeom>
          <a:ln w="0">
            <a:noFill/>
          </a:ln>
        </p:spPr>
      </p:pic>
      <p:sp>
        <p:nvSpPr>
          <p:cNvPr id="526" name="Rectangle 6"/>
          <p:cNvSpPr/>
          <p:nvPr/>
        </p:nvSpPr>
        <p:spPr>
          <a:xfrm>
            <a:off x="6443640" y="234936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c1c1c"/>
                </a:solidFill>
                <a:latin typeface="Arial"/>
              </a:rPr>
              <a:t>dr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7"/>
          <p:cNvSpPr/>
          <p:nvPr/>
        </p:nvSpPr>
        <p:spPr>
          <a:xfrm>
            <a:off x="1547640" y="479736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raw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 picture at the mo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10:51:42Z</dcterms:created>
  <dc:creator>Home</dc:creator>
  <dc:description/>
  <dc:language>en-US</dc:language>
  <cp:lastModifiedBy>AM Teacher</cp:lastModifiedBy>
  <dcterms:modified xsi:type="dcterms:W3CDTF">2019-09-01T16:58:10Z</dcterms:modified>
  <cp:revision>45</cp:revision>
  <dc:subject/>
  <dc:title>THE PRESENT CONTINUOUS TENSE</dc:title>
</cp:coreProperties>
</file>