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9C917-5DE5-4BE2-8C1F-7968A207529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1E50D-C909-428C-B25E-138B3AC8E37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AFCD1-AD50-451F-9A25-3197C98DDF1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3D2F0-975E-4C1B-AA79-214FD351DAD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D244-46AF-43AF-85DC-20D50360A63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BA764-BE57-43A6-8035-7242952D0E2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49299-60E3-474C-BB1E-03A85969276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6079D-78DC-4A01-B97B-B60A47A4381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D3B14-DA8F-460F-A78F-6FB480ABAD7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D4B0-D24C-4E77-A137-FC9B6119F74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CD710-1F41-4BD3-A1B9-6D8BEDEEE00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23827-0ACB-4663-94AE-8473ABABC43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B47E2-AED8-4F37-885C-9DED33EE26A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664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9572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7664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9572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7664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95720" y="160452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7664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95720" y="4078800"/>
            <a:ext cx="25894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8120" y="407880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120" y="1604520"/>
            <a:ext cx="39243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8800"/>
            <a:ext cx="8042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2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010280" y="2052720"/>
            <a:ext cx="1979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Franklin Gothic Medium"/>
              </a:rPr>
              <a:t>Conjunctions &amp; Linking Adverb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2052720"/>
            <a:ext cx="632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Franklin Gothic Medium"/>
              </a:rPr>
              <a:t>English Connect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81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ONNECTORS/TIME SEQUE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0452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NECTOR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ALTHOUGH,BUT,BECAUSE,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IME SEQUENCER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EXT DAY,AFTER THAT,TWO MINUTES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210960" y="243000"/>
            <a:ext cx="8730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5 The weather was terrible ____, we decided to delay our t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a. 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.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c.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572000" y="178920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77920" y="230040"/>
            <a:ext cx="85978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6 That house is beautiful ___, it's too expensive for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a.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.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c. 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241880" y="1868400"/>
            <a:ext cx="38084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81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258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9560" y="1604520"/>
            <a:ext cx="39258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81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NECTORS: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BECAUSE,BUT,SO,ALTHOUG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" y="1368360"/>
            <a:ext cx="3925800" cy="3907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08360" y="1223640"/>
            <a:ext cx="392616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“because”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o express a reas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200" spc="-1" strike="noStrike">
                <a:solidFill>
                  <a:srgbClr val="9966cc"/>
                </a:solidFill>
                <a:latin typeface="Arial"/>
              </a:rPr>
              <a:t>“</a:t>
            </a:r>
            <a:r>
              <a:rPr b="1" i="1" lang="es-ES" sz="2200" spc="-1" strike="noStrike">
                <a:solidFill>
                  <a:srgbClr val="9966cc"/>
                </a:solidFill>
                <a:latin typeface="Arial"/>
              </a:rPr>
              <a:t>They were driving fast because she was in a hur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so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o express a result </a:t>
            </a:r>
            <a:r>
              <a:rPr b="0" lang="es-ES" sz="2200" spc="-1" strike="noStrike">
                <a:solidFill>
                  <a:srgbClr val="9966cc"/>
                </a:solidFill>
                <a:latin typeface="Arial"/>
              </a:rPr>
              <a:t>“</a:t>
            </a:r>
            <a:r>
              <a:rPr b="1" lang="es-ES" sz="2200" spc="-1" strike="noStrike">
                <a:solidFill>
                  <a:srgbClr val="9966cc"/>
                </a:solidFill>
                <a:latin typeface="Arial"/>
              </a:rPr>
              <a:t>They were in a hurry, so she was driving fa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9966cc"/>
                </a:solidFill>
                <a:latin typeface="Arial"/>
              </a:rPr>
              <a:t>”</a:t>
            </a:r>
            <a:r>
              <a:rPr b="1" lang="es-ES" sz="2200" spc="-1" strike="noStrike">
                <a:solidFill>
                  <a:srgbClr val="9966cc"/>
                </a:solidFill>
                <a:latin typeface="Arial"/>
              </a:rPr>
              <a:t>She was hungry so, she ate an appl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-541440" y="2050920"/>
            <a:ext cx="8159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7200" y="1871640"/>
            <a:ext cx="3925800" cy="334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81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t/Alth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9560" y="647640"/>
            <a:ext cx="39258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but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nd 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though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o show a contr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hough” can be used at the beginning or in the middle of a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2300dc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She was very tired, </a:t>
            </a:r>
            <a:r>
              <a:rPr b="1" lang="es-ES" sz="2000" spc="-1" strike="noStrike">
                <a:solidFill>
                  <a:srgbClr val="2300dc"/>
                </a:solidFill>
                <a:latin typeface="Arial"/>
              </a:rPr>
              <a:t>but</a:t>
            </a: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 she coudn't 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2300dc"/>
                </a:solidFill>
                <a:latin typeface="Arial"/>
              </a:rPr>
              <a:t>Although</a:t>
            </a: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 she was very tired, she couldn't sleep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She couldn't sleep </a:t>
            </a:r>
            <a:r>
              <a:rPr b="1" lang="es-ES" sz="2000" spc="-1" strike="noStrike">
                <a:solidFill>
                  <a:srgbClr val="2300dc"/>
                </a:solidFill>
                <a:latin typeface="Arial"/>
              </a:rPr>
              <a:t>although</a:t>
            </a:r>
            <a:r>
              <a:rPr b="0" lang="es-ES" sz="2000" spc="-1" strike="noStrike">
                <a:solidFill>
                  <a:srgbClr val="2300dc"/>
                </a:solidFill>
                <a:latin typeface="Arial"/>
              </a:rPr>
              <a:t> she was very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80880" y="355680"/>
            <a:ext cx="8380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ranklin Gothic Medium"/>
              </a:rPr>
              <a:t>TIME SEQUEN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04760" y="1990800"/>
            <a:ext cx="476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33080" y="1550520"/>
            <a:ext cx="3670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4440" indent="-3207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We use time sequencers to say when or in what order things happ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44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3333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3333"/>
                </a:solidFill>
                <a:latin typeface="Arial"/>
              </a:rPr>
              <a:t>On our first date we went to the cinema. </a:t>
            </a:r>
            <a:r>
              <a:rPr b="1" lang="es-ES" sz="2000" spc="-1" strike="noStrike" u="sng">
                <a:solidFill>
                  <a:srgbClr val="ff3333"/>
                </a:solidFill>
                <a:uFillTx/>
                <a:latin typeface="Arial"/>
              </a:rPr>
              <a:t>After that</a:t>
            </a:r>
            <a:r>
              <a:rPr b="0" lang="es-ES" sz="2000" spc="-1" strike="noStrike">
                <a:solidFill>
                  <a:srgbClr val="ff3333"/>
                </a:solidFill>
                <a:latin typeface="Arial"/>
              </a:rPr>
              <a:t> we started meeting every day”</a:t>
            </a:r>
            <a:r>
              <a:rPr b="0" lang="es-ES" sz="2000" spc="-1" strike="noStrike">
                <a:solidFill>
                  <a:srgbClr val="ff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On Thursday I had an argument with my boss. The </a:t>
            </a:r>
            <a:r>
              <a:rPr b="1" lang="es-ES" sz="2000" spc="-1" strike="noStrike" u="sng">
                <a:solidFill>
                  <a:srgbClr val="000080"/>
                </a:solidFill>
                <a:uFillTx/>
                <a:latin typeface="Arial"/>
              </a:rPr>
              <a:t>Next day</a:t>
            </a: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I decided to look for a new jo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We sat down to eat.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Two minutes later,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the phone ra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TIME SEQUENC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9920" y="1604880"/>
            <a:ext cx="39258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We use “when” as a time sequencer and also to join two a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I was watching tv </a:t>
            </a: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when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 the telephone ra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3333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3333"/>
                </a:solidFill>
                <a:latin typeface="Arial"/>
              </a:rPr>
              <a:t>When</a:t>
            </a:r>
            <a:r>
              <a:rPr b="0" lang="es-ES" sz="2000" spc="-1" strike="noStrike">
                <a:solidFill>
                  <a:srgbClr val="ff3333"/>
                </a:solidFill>
                <a:latin typeface="Arial"/>
              </a:rPr>
              <a:t> I came out of the meeting, she was waiting for 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The accident happened </a:t>
            </a: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when</a:t>
            </a:r>
            <a:r>
              <a:rPr b="0" lang="es-ES" sz="2000" spc="-1" strike="noStrike">
                <a:solidFill>
                  <a:srgbClr val="000080"/>
                </a:solidFill>
                <a:latin typeface="Arial"/>
              </a:rPr>
              <a:t> I crossed the ro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052720"/>
            <a:ext cx="632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Franklin Gothic Medium"/>
              </a:rPr>
              <a:t>Connector Quiz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649160"/>
            <a:ext cx="80452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944794"/>
                </a:solidFill>
                <a:latin typeface="Arial"/>
              </a:rPr>
              <a:t>CONNECTORS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830160" y="507960"/>
            <a:ext cx="6550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1 She tried to organize her house, ____ it was impossible because her children were playing a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buClr>
                <a:srgbClr val="000000"/>
              </a:buClr>
              <a:buFont typeface="Franklin Gothic Medium"/>
              <a:buAutoNum type="alphaLcParenR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buClr>
                <a:srgbClr val="000000"/>
              </a:buClr>
              <a:buFont typeface="Franklin Gothic Medium"/>
              <a:buAutoNum type="alphaLcParenR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buClr>
                <a:srgbClr val="000000"/>
              </a:buClr>
              <a:buFont typeface="Franklin Gothic Medium"/>
              <a:buAutoNum type="alphaLcParenR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598920" y="2962440"/>
            <a:ext cx="4651200" cy="33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64960" y="243000"/>
            <a:ext cx="85978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2 I enjoy reading this new magazine_____ it has good 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a. Alth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.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c. 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450040" y="2100240"/>
            <a:ext cx="292068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369720" y="298440"/>
            <a:ext cx="854424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Medium"/>
              </a:rPr>
              <a:t>3 Jack was tired ___, he took a n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Medium"/>
              </a:rPr>
              <a:t>a.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Medium"/>
              </a:rPr>
              <a:t>b.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Medium"/>
              </a:rPr>
              <a:t>c.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87800" y="1998720"/>
            <a:ext cx="43275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04920" y="282600"/>
            <a:ext cx="85183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4 ___________ John was not thirsty, he drank two glasses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a.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b. 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c. Alth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259160" y="1859040"/>
            <a:ext cx="40640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</dc:creator>
  <dc:description/>
  <dc:language>en-US</dc:language>
  <cp:lastModifiedBy>Entesar Yousef</cp:lastModifiedBy>
  <dcterms:modified xsi:type="dcterms:W3CDTF">2024-11-07T08:18:33Z</dcterms:modified>
  <cp:revision>3</cp:revision>
  <dc:subject/>
  <dc:title>CONNECTORS/TIME SEQUENCERS</dc:title>
</cp:coreProperties>
</file>